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908-0663-41F6-B6E0-D1DEB292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EFC-C317-4F45-809F-D2AC90DB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A2C-3125-44AD-A444-49669E09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369-51D5-4C70-813B-91A0BEFB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1E31-144B-4A96-BE69-F83239FF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0A4C-0C65-4677-959D-6FB46165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5F02-3810-46C7-B7F4-2017F5BB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DE69-8C12-478C-9A02-9EB13D41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F0CF-1635-490B-AC51-D74C6CF1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BEDB-C2AE-4B7B-9DAA-2F312BC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3535-61C7-464C-8739-CD4D00EC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4A8-8C89-4F85-8010-76B2D23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6291-AFB3-4E5E-B5F6-1D8C8608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4185-8A0F-4741-B089-945CE2A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1F6B-8841-4837-AF26-BEF8A8FE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5DE-C21C-4DC8-9DA7-92EBB5BA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67F8-8CBB-434B-ACBC-A2316CB4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1B3-56A6-4E57-A92F-52838F6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015-2C73-4270-BDA5-918985E4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9A2-9C65-4768-BCDA-6393727B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6CE-6CD7-45BE-8A04-B3F252F9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223-8045-402F-AA58-D68B726E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448-33BD-4A4A-8141-753FB5E3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C83-BDA1-4126-949B-9238AC16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070"/>
              </a:gs>
              <a:gs pos="100000">
                <a:srgbClr val="0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E96E-7C7D-43CC-AA1E-2A976505A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8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68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783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383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b7b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66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66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1CD6-6A7A-4429-A65D-A312E188F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ace9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Presentación Metalurgia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General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grantes:         Daniel Tarnok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rancisca Jal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or:          Oscar Bu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echa:                  15/11/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038480" cy="1830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4038840" cy="2395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71640" y="234936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usión Di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2880" y="23493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usión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solución Problem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azón de extrusión: R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/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fuerzo verdadero: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ergía disipada en deformación plástica por unidad de volume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uego el trabajo realizado en la pieza de trabajo por deformación plástica 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c*u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c*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 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te trabajo, es realizado por la fuerza neta externa: W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F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rza fricción: F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*w*t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 criterio de Tresca: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terminación de la fuerza ne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=F-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/4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gualando los trabajos realizados se obtie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/4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fuerzo máximo en la herramien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F/(2*t*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ndición límite de operación: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n lo que se obtie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2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t*w/4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=A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*ln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sabemos además qu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=3*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n lo que: Rmax=exp(5,75*t/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5:17:40Z</dcterms:created>
  <dc:creator>fjalil</dc:creator>
  <dc:description/>
  <dc:language>en-US</dc:language>
  <cp:lastModifiedBy>fjalil</cp:lastModifiedBy>
  <dcterms:modified xsi:type="dcterms:W3CDTF">2005-11-15T16:51:33Z</dcterms:modified>
  <cp:revision>3</cp:revision>
  <dc:subject/>
  <dc:title>Presentación Metalurgia General</dc:title>
</cp:coreProperties>
</file>